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7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5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1.wmf" ContentType="image/x-wm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328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d objectives in 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 for turn and talk in your lesson plans…build them in.  Use in reading/writing/problem-solving/discuss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t to five for how motivated your students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6132-A004-4D59-8B3C-4E571E2C0456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1F05-0866-48BB-8767-34721A822E8F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AF77-9FD3-4B2B-A4DC-50E42FB6134A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B14-9FC7-4E8B-A054-C3065A2991EB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6EE6-373C-4B42-982E-4C03457DD4F1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0222-99A2-40F8-950B-10F1254BDCCF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A89-EE47-4908-9A7C-80CD3D17C405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CAD-D797-42B1-A693-83689A6520B6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AF50-FBB9-4A26-AAD7-1E5849E820B7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02A8-8F80-4A6E-AA61-86B4D82C4AC1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70B4-C291-4CB8-A823-6CE9DB0D3578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0F4-439C-48B6-9624-9C4E3AC0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A74-3D87-4CEC-BAC3-E75F3B1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6A5-4990-4D51-8609-87F8CAA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852-4529-44DB-B912-D06E7CA3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87C-C6EC-41CC-85E0-0B835B1B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CD09-8896-480C-86AA-5AFE2657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C4F-FCC5-4A5A-975B-7B491E8E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8F3F-7417-4009-AD80-8A756C7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E1A9-4A7F-4D45-8300-148F625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8BFE-7A12-41F0-9493-4245D28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8668-4391-4461-8137-E0EC675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7D8-5DEC-4B13-B307-0D58C8C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80DE-5F38-475F-866A-0EEA5B40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19F-325A-40DB-80BE-96484CE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A12C-A6D2-473C-83BA-FF16A0F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F945-7759-4827-9A0E-864BC661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42AB-9EC2-4B6E-AB8A-4168794C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D08F-26B8-4C0B-B0A9-4DAC6E7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F904-762B-4CA0-BEAC-06E30D41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C537-6999-4180-B0E1-F79822E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DE1D-783C-4A7D-B544-36160C1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EEB1-7F3A-4A50-A2E4-DA1E31C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915-F84B-40F0-9941-E070640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A761-7133-4388-BAD7-62C3EABD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49FF-5EFF-4D57-BA35-AE1257A1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5F3E-9681-4551-A139-60B8F05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428E-E4C3-47E2-BA9D-093E40F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1BC7-8224-43A3-A322-E0C48BF1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89D4-9AD8-4554-9DC6-6A648E37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ECA9-F8E8-45DE-9D22-7FDC9B83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E968-40EF-4FE7-A3B9-D13935CC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0F25-1C74-43D6-BC3F-9148CBF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3B45-7D8F-43A8-9F1B-BF1140C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26E-08A9-438B-A8F8-FE87DC94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C134-1F4E-4009-957D-81955CFB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42AE-B580-4FFC-9E25-4ED08F9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2CBF-A589-4752-8103-E6A3D352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400C-5DA4-4094-8C51-8C94493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3D07-0F90-4646-BB61-50A9C84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EB82-70DE-4939-929D-EB9D879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19E8-A85D-4002-BD6A-56C02973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9F35-B5EA-441E-B864-5BC1F8C4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80BF-D2D7-4D7D-B186-5B07D36D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E3C62-8E2D-4CC8-9BC9-003871EB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EE0-206B-4890-B0F5-86FAEB27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37FFE-B1FC-4653-80B9-CA4AA71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B397-7D41-4D8D-8151-5EE77EEA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4495-04E5-4371-A707-D337429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897D-B876-4195-B557-DFDFD872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952A6-A98D-4207-BD1F-A8F8F0C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6576-2B36-4FA4-88DF-118068FE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0765-A9BE-4304-8A24-43E5316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FB66-56E4-4D91-9C9D-2678F3F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9EE73-2EE1-4825-A5FB-B787F6E1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7249-E895-4E4E-9762-2505386F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69C-E87A-446A-91C1-7314924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EA19-B8DA-489F-8C78-0AE2483A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F504-6693-4057-B00E-B8795E7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9458-C5D7-497E-AA15-9CD1A9C2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2750-E321-43F9-A912-B8C767FF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D06B-801D-47D3-BA30-8E775110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167D-2A4E-42EB-8BD7-38B3D4F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3CEBE-6E16-4029-8CAE-493D2B6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C8CA4-632B-4D4D-8E60-D181021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8611-911B-4A2F-B94E-3583ECB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E85D-E625-40D0-846D-2F329D7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41F-80DF-4071-8FFE-E034C8C1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1ACBA-3DF5-4736-91D3-F418C67E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5D1A-9B0B-4A49-B3E1-27E460C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125CE-EB31-45F7-BC39-B6FBA973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604B-463C-44EF-815E-0780E815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4B25-0EEB-4B3C-B84F-D77BF79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113E-E55D-4C2D-B775-5A410AA0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921D9-D600-4336-97E6-9F14A993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15776-A52F-4F93-8AFC-4FB90405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9FDF-4FD4-4225-99BB-639EFE6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6C80-922E-44C8-9C1F-FE2624C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257-0694-44A0-86F5-74C834B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AA72-8C81-4090-9366-D193FAE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2FD3-1D3D-48A0-AF98-0775BC1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948BC-5696-4FC8-91C7-6989F5D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91FDC-7A9D-41A9-A029-AD073D0A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3A4AD-69E3-4778-87B3-78DEB445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0DF-8982-4433-86B9-875AE84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1880" y="1828440"/>
            <a:ext cx="868212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C07F-A84E-4E19-AD1A-C5DC9D15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A631-F9C9-48AD-89CD-4511C2C3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5B35-1DEC-4A26-B492-1BA8226DEB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140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414360" y="2968560"/>
            <a:ext cx="739800" cy="474840"/>
            <a:chOff x="414360" y="2968560"/>
            <a:chExt cx="739800" cy="474840"/>
          </a:xfrm>
        </p:grpSpPr>
        <p:sp>
          <p:nvSpPr>
            <p:cNvPr id="143" name="Rectangle 6"/>
            <p:cNvSpPr/>
            <p:nvPr/>
          </p:nvSpPr>
          <p:spPr>
            <a:xfrm>
              <a:off x="414360" y="2968560"/>
              <a:ext cx="42264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784080" y="2968560"/>
              <a:ext cx="3700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7E57-0FEF-430E-8193-6BB02579C131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3105-6DA6-45AE-8A23-626836C212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049-E49B-4A60-92F2-0CAEDED2F31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3394-A229-41F0-9BE2-4EF144ECFE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BB6F-AF66-42AB-99B7-2B683CB94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73756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Shedding Light on the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EOG Reading 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Comprehens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pdated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lli Harr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tebulb"/>
          <p:cNvSpPr/>
          <p:nvPr/>
        </p:nvSpPr>
        <p:spPr>
          <a:xfrm rot="678000">
            <a:off x="6657840" y="2903040"/>
            <a:ext cx="1995480" cy="3605400"/>
          </a:xfrm>
          <a:custGeom>
            <a:avLst/>
            <a:gdLst>
              <a:gd name="textAreaLeft" fmla="*/ 328320 w 1995480"/>
              <a:gd name="textAreaRight" fmla="*/ 1688760 w 1995480"/>
              <a:gd name="textAreaTop" fmla="*/ 365040 h 3605400"/>
              <a:gd name="textAreaBottom" fmla="*/ 1549440 h 36054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352680" y="3200400"/>
          <a:ext cx="3200400" cy="236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edule for the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:30-11:15 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:15-12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:45-3:00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phrase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and interpret different gen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purposes of selections and portions of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1FE-D63C-4D22-BBCF-BC24CA38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meaning of figurative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w conclusions/Make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mood, tone,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922-8772-4097-9790-BD76CB8D1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8728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pret information in referenc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tically analyze and evaluat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authors’ 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text-to-tex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-to-world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115-753F-46AE-B24E-01C19BE9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nges in the Reading Comprehension EOG 200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ludes 50 items (plus 8 field test ite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es by NC Think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ludes goals 1-3 of S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iminates d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duces the use of 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89DB-55B2-491A-A3D4-96A6F8CF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nges in the Reading Comprehension EO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s 8-9 s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vides content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0% lite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0% inform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6C6-5C7A-4DA2-ADFC-BD6A1197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Grades 3-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980720"/>
            <a:ext cx="76197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ter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60%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non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-2 po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56C0-B27D-41DE-9CE5-95395F21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Grades 3-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828440"/>
            <a:ext cx="76197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ormational   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consumer/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Field Test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AEAA-5BDF-45F3-8F3B-9C5697F4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estions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rpose setting statement are printed in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selections are printed in familiar two colum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1821-FDAC-46FE-BC80-F12E852B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6140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8080" y="16761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em lines are numbered in standard poem numbering (every five lines) if a question refers to l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em lines quoted in questions are indicated with backward slash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/Roses  are re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2B3-C6DA-4A52-98F7-71980072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13736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2038320"/>
            <a:ext cx="79754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lection paragraphs are numbered if a question refers to a paragraph and the selection is more than four paragraph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08B-3D75-4DF8-B67C-03CA6A6C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e you living on the edg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3" name="Content Placeholder 4" descr="goat on the edge.JPG"/>
          <p:cNvPicPr/>
          <p:nvPr/>
        </p:nvPicPr>
        <p:blipFill>
          <a:blip r:embed="rId1"/>
          <a:stretch/>
        </p:blipFill>
        <p:spPr>
          <a:xfrm>
            <a:off x="2325600" y="2255760"/>
            <a:ext cx="5486400" cy="363852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FD9B-2C89-4D25-9C17-B0B927ED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137360" cy="51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62120" y="1828800"/>
            <a:ext cx="79754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ogies with the colon (5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of the following relationships is most similar to the relationship below?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uit :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   car :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    cookie : ice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    tree : 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    vegetable : 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2FF3-A996-4F8F-B865-ACD87F31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17A-E11D-437C-BB65-4F4A481D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04920" y="838080"/>
          <a:ext cx="8229600" cy="3962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625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CS Language Arts Pacing Gu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Use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etacognitive strategie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to comprehend text and to clarify meaning of vocabulary (reread the text, consult other sources, ask for help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2 Interact w/ text before, during and after reading, listening and viewing by:  setting a purpose using prior knowledge and text information,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aking predictio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nd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aking connections with previous experiences, information and idea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4 Identify and interprets elements of fiction and nonfiction and support by referencing the text to determine the:  plot and main ideas/supporting detai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6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major points from fiction and nonfiction text(s) to clarify and retain information and ide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7"/>
          <p:cNvSpPr/>
          <p:nvPr/>
        </p:nvSpPr>
        <p:spPr>
          <a:xfrm flipV="1" rot="10800000">
            <a:off x="457200" y="41137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09 Listen actively by asking questions and paraphrasing what was sai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North Carolin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ink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g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C2D-BFEE-495B-B23C-87961C6A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asic Thinking Skill:  Know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cus on need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roblem/set goals to solv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recall information in long ter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, name, label, recall, identify, match,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35B-BC85-4C65-9F3E-54920BAB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Know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selection, what is the main reas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selection, which statement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describe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225-9C84-4795-8933-A934F52B5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asic Thinking Skill:  Organiz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re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ize, group, classify, compare, 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087D-6109-4581-A580-5868E733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ganiz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the selection, how did … differ from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… and …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heading/detail belongs in the empty box (graphic organiz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main difference between x, y, and 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9B9D-4092-4334-BE19-BB5D3E0A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757-B97C-406B-98E2-FC621361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2962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BAD6-E869-457E-B243-B892A76E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152280" y="228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B734-989D-4413-ADC8-E8F12B34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8686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feel you are stuck in a hole and can’t get ou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6" name="Content Placeholder 4" descr="horse in hole.JPG"/>
          <p:cNvPicPr/>
          <p:nvPr/>
        </p:nvPicPr>
        <p:blipFill>
          <a:blip r:embed="rId1"/>
          <a:stretch/>
        </p:blipFill>
        <p:spPr>
          <a:xfrm>
            <a:off x="3459240" y="201780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289-5ED7-4D4B-B040-222C5AFB5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4624-3544-4572-BCA4-3E221E4B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71280" y="561960"/>
            <a:ext cx="9001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2FE-8769-4E14-8B6B-5CB947A4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2B53-A918-404A-939B-995ACF12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26640" cy="57816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152280" y="304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45A-B378-49CB-A611-BE5360D7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89438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A90-3330-4E27-A7A2-62DB5F17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033640" y="385920"/>
            <a:ext cx="5076720" cy="60861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228600" y="1522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513-4E79-4A52-87FE-9D70106B2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0" y="1090440"/>
            <a:ext cx="86868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2BD-5ACC-451F-8F83-096346891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Apply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nstrate prior knowledge in a new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ng together information to solv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generalizations to 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, make, show, record, construct, demonstrate, illu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75B-C9AE-447B-B5DE-50F9AA94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pply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040" y="2017800"/>
            <a:ext cx="8040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ould most likely need (character’s) inven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x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which part of the selection does the author give information about what happened before the selection be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graph, which x has the most 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42D1-6E55-4F48-B60F-1775DF2E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Analyz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arts an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attributes, components,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relationships an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oritize key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line, diagram, differentiate, 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EBBD-8C59-4997-B302-20788FB9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s your load to heavy to bear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9" name="Content Placeholder 4" descr="mommy overload.JPG"/>
          <p:cNvPicPr/>
          <p:nvPr/>
        </p:nvPicPr>
        <p:blipFill>
          <a:blip r:embed="rId1"/>
          <a:stretch/>
        </p:blipFill>
        <p:spPr>
          <a:xfrm>
            <a:off x="2449440" y="2322360"/>
            <a:ext cx="5238720" cy="3505320"/>
          </a:xfrm>
          <a:prstGeom prst="rect">
            <a:avLst/>
          </a:prstGeom>
          <a:ln w="0">
            <a:noFill/>
          </a:ln>
        </p:spPr>
      </p:pic>
      <p:sp>
        <p:nvSpPr>
          <p:cNvPr id="35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754-9F6E-4DD9-BFF7-B1C9ED82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alyz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143000" y="2017800"/>
            <a:ext cx="7812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is story meant to expl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the author most likely begin by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aragraph states “..”.  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purpose of using (word 1) and (word 2) in the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lesson should (character) have learned from his exper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AC4A-1C6E-4A9E-BFB9-E0211E85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Gener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ing new information, meaning,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bora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de, predict, infer, explain, elab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764E-0FBD-4B16-96B8-4EB47B415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ener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(character) most likely feel whe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ill most likely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which statement would (character) most likely ag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main purpose of this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F928-0280-4A68-9C25-12F92E09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Upper Level Thinking Skill:  Integr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ng and combin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ructuring (synthesizing) – incorporate new information into existing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e, summarize, design, imagine, generalize, synth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B81F-D572-4EFC-84ED-492B0EB4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tegr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paragraph x, why is the (horse) compared to a “(leaping flame)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best describes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would be the best fit if added to the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968-0398-4367-B3CF-38F48CE9B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Upper Level Thinking Skill:  Evalu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ss reasonableness and quality of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 criteria for ju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ing accuracy 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dge, evaluate, rate, verify, assess, define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2A88-9E24-427D-8FB6-DC6AEF6D7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valu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oes the author compare (x) to (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is the best clue that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a reader tell about (character) from he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054A-D7CE-4A6F-ADFD-7B228A45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 S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4BAC-B2A2-4477-A63B-8659A451DBA9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99"/>
                </a:solidFill>
                <a:latin typeface="Brush Script MT"/>
              </a:rPr>
              <a:t>Comprehension Challenge</a:t>
            </a:r>
            <a:endParaRPr b="0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759-5CB1-42A9-BD30-F11FC98B46BF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Your Turn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EO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D5E-AA51-4635-BE59-BF899A7B628A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need more “coverage” (for your class)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2" name="Content Placeholder 4" descr="need more coverage.JPG"/>
          <p:cNvPicPr/>
          <p:nvPr/>
        </p:nvPicPr>
        <p:blipFill>
          <a:blip r:embed="rId1"/>
          <a:stretch/>
        </p:blipFill>
        <p:spPr>
          <a:xfrm>
            <a:off x="1892160" y="2017800"/>
            <a:ext cx="6353280" cy="411480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4542-52D3-4CD9-8318-F8574DB7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ery Pupil Respon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520" y="1600200"/>
            <a:ext cx="61722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l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B/C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445788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A61-C71E-48FE-BD43-7F729032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not just give students questions and expect them to develop critical thinking.  We must MODEL expected thinking and then provide multiple opportunities for guided and independent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ECC1-E978-468F-8E58-ADCAC86FD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7" name="Object 2"/>
          <p:cNvGraphicFramePr/>
          <p:nvPr/>
        </p:nvGraphicFramePr>
        <p:xfrm>
          <a:off x="2050920" y="0"/>
          <a:ext cx="5972400" cy="78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972400" cy="78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182600" y="2017800"/>
            <a:ext cx="726912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is this poem written so that the lines cu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 To show the word seal begins with an “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 To describe how a seal catches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 To show the movement of a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To explain how the author feels about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nking Skill:  Analy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ey: 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A1E-25A6-4B27-B8EE-D5D51816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effect of the short lines in the po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They help emphasize the seal’s quick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They help the reader understand why seals dive and swe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 They create a rhyming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 They add humor to the po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 (G6) 4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Skill: 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Level: 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: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91F-D130-4483-9454-4A0553625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 Lines 1 through 15 appeal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hich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 (G6):  5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king Skill:  Organi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iculty Level: 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: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659-2399-4725-A730-30A60F16F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w me students who c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(answers), and I’ll show you students who c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(answers)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oger F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26D0-8620-4D0D-A797-07434FDC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reparing Students For the Reading EO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Reading St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Strategies with Practic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question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ine key facts/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 questions (Q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iminating incorrec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ing thei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How the Tes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707-01C2-4D55-943F-AD88334E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 Taking Tip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title and intro. statement (if any).  Pred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some or all questions to set purpose 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selection slowly and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rea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 out incorrect answer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 on your paper, then bub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F4E7-AEFB-4FF0-994F-37D79F54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ore Testing Ti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re unsure of an answer, make your best guess.  Circle it to revisi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y on the right line when bubb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your answers with any extra time.  Only change answers if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nervous, close eyes, breath and try to rel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B5E-851F-49C4-BD18-B86201F6E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phasizes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esses vocabulary through application and understanding of terms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ires reading different type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F78-2CEF-48F1-9883-E3C77939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78960" cy="153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QAR: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re Do You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nd the Answer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00240" y="1980720"/>
            <a:ext cx="380988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M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hor an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to think about what you already know and what the author is talking about in the text to find the answ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 My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to think about what you know, applying prior knowledge, to answer the question. The answer is not in the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0520" y="198108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ght T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put your finger right on the answer in the text. The question often uses the same words as the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nk and Searc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need to look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ts of the text to find the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CDA6-54FE-4FF3-83E7-D905AAD1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3A7A-3E1E-4596-82A4-28271151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students do not understand 5% of the words, they will have difficulty comprehending the text if they comprehend at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920" y="11426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OG Vocabulary: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peaking the Same Langua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11360" y="2057400"/>
            <a:ext cx="7264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amples of EO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is the effec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a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ld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titles/ subhea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998-8F00-4759-93AE-3A96AA4F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AC99-B6F6-4F99-A46C-83098894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ection describes ____.  What does this word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agraph __, the auth0r states “….”.  What does the word ____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ntence in context)  In which of the following sentences is the word ____ used the same way as in the sentence ab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ntence in context)  Which of the following definitions of _____ applies to this sent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election, which word means the same as “….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agraph x, why are some words written in paren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tructional Strategies to teach the EOG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EOG vocabulary in everyday instr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roduce the vocabulary in small meaningful chu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 the vocabulary within the context of your Reading instructional pl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C5D-3DEE-48CB-8DCD-166EB07A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9" name="Content Placeholder 4" descr="Southmont Pics 3rd grade (2)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5640-0C7C-49B2-8919-029166F11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og word wal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2" name="Content Placeholder 4" descr="Southmont Pics 3rd grade (1).jpg"/>
          <p:cNvPicPr/>
          <p:nvPr/>
        </p:nvPicPr>
        <p:blipFill>
          <a:blip r:embed="rId1"/>
          <a:stretch/>
        </p:blipFill>
        <p:spPr>
          <a:xfrm>
            <a:off x="152280" y="152280"/>
            <a:ext cx="9296640" cy="6985080"/>
          </a:xfrm>
          <a:prstGeom prst="rect">
            <a:avLst/>
          </a:prstGeom>
          <a:ln w="0">
            <a:noFill/>
          </a:ln>
        </p:spPr>
      </p:pic>
      <p:sp>
        <p:nvSpPr>
          <p:cNvPr id="53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D25-2B81-4B3A-8A39-28A4FA9B8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tructional Strategies to teach the EOG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eate an EOG Word W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rd 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thinking of a wor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mes such as  Bingo, Go Fish, Memory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2FC-15E3-453F-9650-E0A29542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ing Vocabulary Challen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082-D54A-4AB1-AD03-70F5B81F18A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view Activities and Gam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Reading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aring Terms       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esting Vocabulary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Impact"/>
              </a:rPr>
              <a:t>I Have…Who 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Haettenschweiler"/>
              </a:rPr>
              <a:t>Jigsaw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cc0066"/>
                </a:solidFill>
                <a:latin typeface="Courier New"/>
              </a:rPr>
              <a:t>Vocabulary Knowledge Rating/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Draw Me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ocabulary Ch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Comic Sans MS"/>
              </a:rPr>
              <a:t>Name That Categor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alk a Mile a Minute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 Triangle 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9900"/>
                </a:solidFill>
                <a:latin typeface="Georgia"/>
              </a:rPr>
              <a:t>Card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Bingo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eel of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zano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26C9-3E00-49BF-AFBA-001605FA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gages students in complex, comprehensive reading and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olves critical analysis and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easures higher order thin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F3D-FD08-40B4-A3A8-055CA1ADB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mart Board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Structure Tic Tac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F9F-D049-4DD9-A587-6E95B60C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9153-5368-441A-BA46-29F291415033}" type="slidenum">
              <a:rPr b="0" lang="en-US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CAF-03CF-4067-A3F5-87407DE52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0DB-ABBF-4EEC-A1FA-697809DF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743200" y="1981080"/>
            <a:ext cx="4038480" cy="45720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81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54E0-828F-4697-AD32-F3C2CD428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743200" y="20574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0F74-CE6F-44E3-B968-14AB58F34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FA4E-7E3E-4893-86CE-8BFBAFAE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iangle Trivia – Comprehension Strateg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67" name="Group 16"/>
          <p:cNvGrpSpPr/>
          <p:nvPr/>
        </p:nvGrpSpPr>
        <p:grpSpPr>
          <a:xfrm>
            <a:off x="1143000" y="1523880"/>
            <a:ext cx="6781680" cy="4985640"/>
            <a:chOff x="1143000" y="1523880"/>
            <a:chExt cx="6781680" cy="4985640"/>
          </a:xfrm>
        </p:grpSpPr>
        <p:sp>
          <p:nvSpPr>
            <p:cNvPr id="568" name="AutoShape 4"/>
            <p:cNvSpPr/>
            <p:nvPr/>
          </p:nvSpPr>
          <p:spPr>
            <a:xfrm>
              <a:off x="1143000" y="152388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5"/>
            <p:cNvSpPr/>
            <p:nvPr/>
          </p:nvSpPr>
          <p:spPr>
            <a:xfrm>
              <a:off x="2209680" y="4952880"/>
              <a:ext cx="4648320" cy="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6"/>
            <p:cNvSpPr/>
            <p:nvPr/>
          </p:nvSpPr>
          <p:spPr>
            <a:xfrm>
              <a:off x="3200400" y="3429000"/>
              <a:ext cx="2666880" cy="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7"/>
            <p:cNvSpPr/>
            <p:nvPr/>
          </p:nvSpPr>
          <p:spPr>
            <a:xfrm>
              <a:off x="4572000" y="3429000"/>
              <a:ext cx="0" cy="152388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8"/>
            <p:cNvSpPr/>
            <p:nvPr/>
          </p:nvSpPr>
          <p:spPr>
            <a:xfrm>
              <a:off x="3429000" y="4952880"/>
              <a:ext cx="0" cy="152424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9"/>
            <p:cNvSpPr/>
            <p:nvPr/>
          </p:nvSpPr>
          <p:spPr>
            <a:xfrm>
              <a:off x="5638680" y="4952880"/>
              <a:ext cx="0" cy="152424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Text Box 10"/>
            <p:cNvSpPr/>
            <p:nvPr/>
          </p:nvSpPr>
          <p:spPr>
            <a:xfrm>
              <a:off x="3886200" y="3048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Text Box 11"/>
            <p:cNvSpPr/>
            <p:nvPr/>
          </p:nvSpPr>
          <p:spPr>
            <a:xfrm>
              <a:off x="609588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Text Box 12"/>
            <p:cNvSpPr/>
            <p:nvPr/>
          </p:nvSpPr>
          <p:spPr>
            <a:xfrm>
              <a:off x="4952880" y="457200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Text Box 13"/>
            <p:cNvSpPr/>
            <p:nvPr/>
          </p:nvSpPr>
          <p:spPr>
            <a:xfrm>
              <a:off x="2819520" y="457200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Text Box 14"/>
            <p:cNvSpPr/>
            <p:nvPr/>
          </p:nvSpPr>
          <p:spPr>
            <a:xfrm>
              <a:off x="182880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Text Box 15"/>
            <p:cNvSpPr/>
            <p:nvPr/>
          </p:nvSpPr>
          <p:spPr>
            <a:xfrm>
              <a:off x="388620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0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mmariz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2057400" y="53341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in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fere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365760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Ask Ques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464832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Visualiz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5562720" y="5334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ke Connec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3859-DFC3-461F-8FAD-91DA31AD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Recipe Ter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88" name="Group 16"/>
          <p:cNvGrpSpPr/>
          <p:nvPr/>
        </p:nvGrpSpPr>
        <p:grpSpPr>
          <a:xfrm>
            <a:off x="1143000" y="1447920"/>
            <a:ext cx="6781680" cy="4985640"/>
            <a:chOff x="1143000" y="1447920"/>
            <a:chExt cx="6781680" cy="4985640"/>
          </a:xfrm>
        </p:grpSpPr>
        <p:sp>
          <p:nvSpPr>
            <p:cNvPr id="589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3886200" y="297216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11"/>
            <p:cNvSpPr/>
            <p:nvPr/>
          </p:nvSpPr>
          <p:spPr>
            <a:xfrm>
              <a:off x="609588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4952880" y="44960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2819520" y="449604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Text Box 14"/>
            <p:cNvSpPr/>
            <p:nvPr/>
          </p:nvSpPr>
          <p:spPr>
            <a:xfrm>
              <a:off x="18288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Text Box 15"/>
            <p:cNvSpPr/>
            <p:nvPr/>
          </p:nvSpPr>
          <p:spPr>
            <a:xfrm>
              <a:off x="38862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Text Box 17"/>
          <p:cNvSpPr/>
          <p:nvPr/>
        </p:nvSpPr>
        <p:spPr>
          <a:xfrm>
            <a:off x="2895480" y="37339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gredi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bak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utensi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21"/>
          <p:cNvSpPr/>
          <p:nvPr/>
        </p:nvSpPr>
        <p:spPr>
          <a:xfrm>
            <a:off x="3733920" y="5334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whip/bl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rec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0B1-1CFA-4C11-BCFD-DF3C182A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Text Feat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09" name="Group 16"/>
          <p:cNvGrpSpPr/>
          <p:nvPr/>
        </p:nvGrpSpPr>
        <p:grpSpPr>
          <a:xfrm>
            <a:off x="1143000" y="1447920"/>
            <a:ext cx="6781680" cy="4985640"/>
            <a:chOff x="1143000" y="1447920"/>
            <a:chExt cx="6781680" cy="4985640"/>
          </a:xfrm>
        </p:grpSpPr>
        <p:sp>
          <p:nvSpPr>
            <p:cNvPr id="610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78"/>
                </a:gs>
                <a:gs pos="100000">
                  <a:srgbClr val="ffffd7">
                    <a:alpha val="49019"/>
                  </a:srgbClr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886200" y="297216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609588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4952880" y="44960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2819520" y="449604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18288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38862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2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head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grap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bhead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cap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77F-3BE5-4B29-8995-F903B302B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Poe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30" name="Group 16"/>
          <p:cNvGrpSpPr/>
          <p:nvPr/>
        </p:nvGrpSpPr>
        <p:grpSpPr>
          <a:xfrm>
            <a:off x="1143000" y="1447920"/>
            <a:ext cx="6781680" cy="4955400"/>
            <a:chOff x="1143000" y="1447920"/>
            <a:chExt cx="6781680" cy="4955400"/>
          </a:xfrm>
        </p:grpSpPr>
        <p:sp>
          <p:nvSpPr>
            <p:cNvPr id="631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10"/>
            <p:cNvSpPr/>
            <p:nvPr/>
          </p:nvSpPr>
          <p:spPr>
            <a:xfrm>
              <a:off x="3886200" y="297216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 Box 11"/>
            <p:cNvSpPr/>
            <p:nvPr/>
          </p:nvSpPr>
          <p:spPr>
            <a:xfrm>
              <a:off x="609588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12"/>
            <p:cNvSpPr/>
            <p:nvPr/>
          </p:nvSpPr>
          <p:spPr>
            <a:xfrm>
              <a:off x="4952880" y="44960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Text Box 13"/>
            <p:cNvSpPr/>
            <p:nvPr/>
          </p:nvSpPr>
          <p:spPr>
            <a:xfrm>
              <a:off x="2819520" y="4496040"/>
              <a:ext cx="144756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4"/>
            <p:cNvSpPr/>
            <p:nvPr/>
          </p:nvSpPr>
          <p:spPr>
            <a:xfrm>
              <a:off x="182880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Text Box 15"/>
            <p:cNvSpPr/>
            <p:nvPr/>
          </p:nvSpPr>
          <p:spPr>
            <a:xfrm>
              <a:off x="388620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peak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tanz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po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OG Reading Comprehension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ssesses NCSC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(reading comprehen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ses the North Carolina Thinking Skill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Requires students to read selections from a variety of text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241-D6AD-4577-A08E-61592F66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1303200" y="770040"/>
            <a:ext cx="779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igsaw Boo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0355-99FE-4C23-A408-221C9A22476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r students will be ready for the EOG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3" name="Content Placeholder 4" descr="dogs leaping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E7F-A546-405A-99B6-B0C2EF7FD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ease Visit Our Web Pag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ww.ncpublicschools.org/ accountability/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ww.ncpublicschools.org/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D502-7140-4560-AF1E-41CFF859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ly reading strate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fine key vocabulary by examining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ganiz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A7A-7652-4D07-873F-6ECAB3F5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8:01:39Z</dcterms:created>
  <dc:creator>North Carolina</dc:creator>
  <dc:description/>
  <dc:language>en-US</dc:language>
  <cp:lastModifiedBy>kharrell</cp:lastModifiedBy>
  <cp:lastPrinted>2002-12-31T20:55:05Z</cp:lastPrinted>
  <dcterms:modified xsi:type="dcterms:W3CDTF">2011-03-03T03:50:07Z</dcterms:modified>
  <cp:revision>44</cp:revision>
  <dc:subject/>
  <dc:title>Grades 3-5  EOG Reading  Comprehension Test: Update and Instructional  Implications</dc:title>
</cp:coreProperties>
</file>